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2C353-BB51-439A-9CEF-E6DFB1B1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7FEF0-0FA1-45EE-B426-2A7116AD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14AAF-9188-46AF-A231-7C11EC80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0DF08-2E9E-46ED-91AC-D94220D5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CEE3-1A5C-4CF1-8018-ED9ABBA1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ECD3-5FDD-4651-AA27-BEC4DB49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A227-DEC6-49F6-80FC-408E256D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E063-4FD8-413C-A3DC-8FB13F33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2D22-C575-4E70-9030-B9A33FC5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3EAE-BC16-4763-A511-02D052AB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E047-A2FF-4EA5-934D-631A0105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009E0-B202-48A6-826B-6AE06E50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6E76-6414-4A3C-A34C-2FE174C2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000E-3299-46A4-BBFF-73D06EDF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8162-68CD-48DA-B7A8-1AA00F7E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3BCA-C51C-4515-BD38-5ACE3E32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0A70-A16C-412C-A32C-8C04C7D9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36747-6807-4E2D-B573-1AF4F809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03EFA-749C-43EB-8EB9-35840BDD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A2570-0DC2-4E45-B9D4-D6C8A5EE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347A4-D56B-4654-81D9-AF15450B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A1011-D34E-4ACD-8AF7-038EA305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34882-E07D-4664-9948-768C701C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18E6D-22D3-46B3-B231-C8609048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697C-3748-4DC5-B0A9-34CD0D6182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5B97-EFE1-408B-99A6-175B7E9BA9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Gray826and831.PNG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ower Limb Case #2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ter Farre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meer Sinh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rew Palmisa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rk Upt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flex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hilles Tendon Reflex T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at muscles does this test involve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-2124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astrocnemi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-2124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le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at nerve innervates these muscle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-2124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ibial Nerv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s test specifically tests the S1 spinal ner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42307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rniated Dis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rniated discs most commonly occur at either the L4-L5 IV disc or the L5-S1 IV dis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sed on the reflex test results where do you think the herniation has occurred in our patient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ost likely in the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4-L5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V dis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re is no definitive reflex test for this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Picture from Hometown"/>
          <p:cNvPicPr/>
          <p:nvPr/>
        </p:nvPicPr>
        <p:blipFill>
          <a:blip r:embed="rId1"/>
          <a:stretch/>
        </p:blipFill>
        <p:spPr>
          <a:xfrm>
            <a:off x="4648320" y="1828800"/>
            <a:ext cx="434340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a Herniated Disc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at are the two parts of an intervertebral disc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nulus Fibrosis and Nucleus Pulpos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at happens when a disc is herniated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ucleus Pulposis protrudes out and impinges a spinal nerv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nerve root tends to be impinged in an IV disc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lower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nerve roo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.e.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5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n an L4-L5 herni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Picture from Hometown"/>
          <p:cNvPicPr/>
          <p:nvPr/>
        </p:nvPicPr>
        <p:blipFill>
          <a:blip r:embed="rId1"/>
          <a:stretch/>
        </p:blipFill>
        <p:spPr>
          <a:xfrm>
            <a:off x="4724280" y="1981080"/>
            <a:ext cx="426744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ympto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4344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ympto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hy did our patient experience pain during active flexion of the lumbosacral spine and no pain when the back was extended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44038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rves of the Leg and Foo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the Major Nerves of the Leg and Foo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ciatic Nerve (L4-S3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bial Nerve (L4-S3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on Fibular (L4,L5,S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erficial Fibula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ep Fibula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Art:Posterior view of the right leg, showing the sciatic nerve and its branches."/>
          <p:cNvPicPr/>
          <p:nvPr/>
        </p:nvPicPr>
        <p:blipFill>
          <a:blip r:embed="rId1"/>
          <a:stretch/>
        </p:blipFill>
        <p:spPr>
          <a:xfrm>
            <a:off x="2666880" y="0"/>
            <a:ext cx="364032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7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730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ief Compai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28 year-old African American male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Garamond"/>
              </a:rPr>
              <a:t>Walks in examination room with an abnormal gait in which he: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ans his body toward the right side during the single stance interval of the right lower limb’s stance period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hortens the stride to minimize the duration of the right lower limb’s stance period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els uncomfortable when he sits dow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Lower limb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228600"/>
            <a:ext cx="50101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81080" y="1131840"/>
            <a:ext cx="6019920" cy="57261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43000" y="380880"/>
            <a:ext cx="7315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2286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Dermatome Pattern of the Lower Lim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tensor Hallicus Longu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ig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er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nerv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394160" cy="5257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H="1" flipV="1">
            <a:off x="7924320" y="4191120"/>
            <a:ext cx="76212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bnormal Gai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5 nerv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uperior gluteal nerv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gluteus mediu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686800" cy="58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76120" y="1219320"/>
            <a:ext cx="88678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at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y times herniated discs will heal on their own over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help decrease the recovery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d rest is advised to reduce pain and the load on the spinal cor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in medication is given if need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severe cases surgery may be necess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hysical Ex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ital Signs: Norm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usculoskeletal Examinatio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pection, movement, and palpation of the lower back and the upper and lower limbs are normal except for the following findings: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spection of the lower back shows a flattening of the normal lumbar lordosis and a listing of the lumbar spine to the right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in restricts active flexion of the lumbosacral spine.  Extension of the lumbosacral spine is relatively painles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straight leg raising test exacerbates right lower limb pain; lowering the leg to the highest level at which pain is relieved and then dorsiflexing the foot reintensifies the pain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lpation of the lower back reveals bilateral paraspinal muscle spasm in the lumbar reg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urologic Ex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atient reports diminished pin and cotton touch sensation on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dial aspec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f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rsu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f the right foot and the contiguous areas of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i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on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oes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tension of the big toe in the right foot has a strength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rade 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tinent normal findings inclu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ilaterally symmetric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knee jerk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chilles tendon refle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es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fferential Diagno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could be causing this patient’s symptom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rve Cy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cer of the spinal co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ciatic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rniated Dis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spinal Muscle Spas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aspinal Muscles are muscles which are adjacent to the vertebral column (i.e. Multifidus, Rotatores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asms (contractions that can’t be controlled) of these muscles can occur when a part of the spine around the area near them has been injur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juries can include a problem with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rvertebral Discs, ligaments, or the muscles themselv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19920" y="1905120"/>
            <a:ext cx="28573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Where Is the Spinal Cord Damaged?"/>
          <p:cNvPicPr/>
          <p:nvPr/>
        </p:nvPicPr>
        <p:blipFill>
          <a:blip r:embed="rId1"/>
          <a:stretch/>
        </p:blipFill>
        <p:spPr>
          <a:xfrm>
            <a:off x="1752480" y="0"/>
            <a:ext cx="597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raight Leg Raising Te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0" y="1523520"/>
            <a:ext cx="4191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st used to identify compression of the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ciatic Nerv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ost commonly due to a herniated intervertebral disc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patient lays in the supine position while the examiner raises his/her leg while it is fully extend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level at which pain is experienced is noted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orsiflexing the ankle may increase the strain on the Sciatic nerve – further increasing the pai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area of pain can be indicative of the type of spinal cord injur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ack pain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Central Disc Protrus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eg pain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Lateral Disc Protrus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3938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flex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tests can help clinicians determine where a potential herniation has occur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our case two reflex tests were conducted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) Knee Jerk Reflex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504080" indent="-21456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at muscle(s) does this reflex involve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933920" indent="-214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Quadriceps Femor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04080" indent="-21456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at is the innervation of the Quadriceps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933920" indent="-214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emoral nerv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04080" indent="-21456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pinal Cord Segments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933920" indent="-214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2-L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22:59:47Z</dcterms:created>
  <dc:creator>home</dc:creator>
  <dc:description/>
  <dc:language>en-US</dc:language>
  <cp:lastModifiedBy>Sameer Sinha</cp:lastModifiedBy>
  <dcterms:modified xsi:type="dcterms:W3CDTF">2008-02-03T19:39:02Z</dcterms:modified>
  <cp:revision>63</cp:revision>
  <dc:subject/>
  <dc:title>Case #1</dc:title>
</cp:coreProperties>
</file>